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A6C0-A958-405F-86BA-60EFC939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4130-3A83-4E44-955E-69229CB2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93E6-A532-4D38-8C4D-F2F3F87F8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D2C0-D005-49D7-9E23-06B9494FA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1AD6-4DD5-4FC0-BBAF-9E00ADCD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46AC-A119-4366-9591-C1C618A7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EE39-4C93-48EF-91AB-3E1E6EE9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9A5B-BB6D-45BD-9DC9-DEC5D3F2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5CCD-7A94-467D-8605-9640D700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41AC-4AE0-4D79-AAA2-61F5717A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F2BF-59EE-4772-94D2-1DC2EF75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CE43-C315-425B-BBFD-05DE3D97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/31/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E5BA-7473-45CA-8FA3-C95F325AE403}" type="slidenum">
              <a:rPr b="0" lang="ar-Q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4.xml"/><Relationship Id="rId7" Type="http://schemas.openxmlformats.org/officeDocument/2006/relationships/slide" Target="slide17.xml"/><Relationship Id="rId8" Type="http://schemas.openxmlformats.org/officeDocument/2006/relationships/slide" Target="slide19.xml"/><Relationship Id="rId9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criptive Statistics: Part 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rrokh Alemi Ph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shif Haqqi M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iability and Valid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5800" y="1447920"/>
          <a:ext cx="8153280" cy="4800600"/>
        </p:xfrm>
        <a:graphic>
          <a:graphicData uri="http://schemas.openxmlformats.org/drawingml/2006/table">
            <a:tbl>
              <a:tblPr/>
              <a:tblGrid>
                <a:gridCol w="1752480"/>
                <a:gridCol w="3429000"/>
                <a:gridCol w="2971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iabi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in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istency of results on repeat measu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suring what is supposed to be measu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-r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e valid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ra-r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uct valid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lit hal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dictive valid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-ret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5029200" y="6248520"/>
            <a:ext cx="380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ck to Table of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Be Valid You Must Have a Reliable Measure. 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ut You Can Have an Invalid Measure That Is Reliab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Reliability Calc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page shows a table from Hayward, RA, McMahon LF, Bernard AM. Evaluating the care of general medicine inpatients: how good is implicit review? Annals of Internal Medicine, volume 118(7), 1993, pp 550-55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reviewers rated the quality of health care delivered in the same case.  The Table shows inter-rater relia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0000605-199304010-000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-rater Reli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5800" y="2400480"/>
          <a:ext cx="7772400" cy="327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00480"/>
                    <a:ext cx="777240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an, arithmetic average, is found by adding values of the data and dividing by the number of values.  The mean of 3, and 4 is 3.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eometric average is found by multiplying the values of the data and taking the power of one divided by the number of values.  The geometric average of 3 and 4 is square root of 3 times 4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calculate the mean and geometric average for 3, 4, and 5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6248520"/>
            <a:ext cx="380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ck to Table of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an of 3, 4 and 5 is the sum of these numbers divided by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ometric average of 3, 4 and 5 is the cube root of 3 times 4 times 5.  To calculate the cube root in excel you write a formula like:  =(3*4*5)^0.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nswer is 3.86.  Open Excel and verify that you can do th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 Between Mean and Geometric Ave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ometric average is used when averaging probabilitie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an is used in most other con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dian is the halfway point in a data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alculate median arrange data in order.  Calculate half of the observations by dividing the number of values by 2 and rounding the value to the lower number.  Count half the values and use the next value as medi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6384960"/>
            <a:ext cx="380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ck to Table of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dian for age of 7 patients (23, 45, 56, 23, 34, 65, 25) if given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 the list of values: 23, 23, 25, 34, 45, 56, 6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7 observations.  Divide 7 by two and round to lower number and you get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ip the first 3 and the median is the next number.  In this example, 34 is the medi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o this in Exc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st frequent value observed is the 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 is always an observed value in the data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alculate the mode, count the number of times each value is repeated.  The value with most repetition is the 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this in Exc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6248520"/>
            <a:ext cx="380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Back to Table of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 of Cont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2" action="ppaction://hlinksldjump"/>
              </a:rPr>
              <a:t>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3" action="ppaction://hlinksldjump"/>
              </a:rPr>
              <a:t>Samp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4" action="ppaction://hlinksldjump"/>
              </a:rPr>
              <a:t>Types of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5" action="ppaction://hlinksldjump"/>
              </a:rPr>
              <a:t>Reliability and vali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6" action="ppaction://hlinksldjump"/>
              </a:rPr>
              <a:t>A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7" action="ppaction://hlinksldjump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8" action="ppaction://hlinksldjump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for M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 data: 23, 45, 56, 23, 34, 65, 2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3 is repeated tw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other values are repeated o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de is 2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s in Measures of Central Tend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, median and mean could be three different numbers in asymmetrical distributions of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y data set there is only one mean and median but there may be many m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n is less influenced by the extreme values than m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 is almost never observed, median is observed in only odd numbered data sets and mode is always observed in the data 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61722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validity and reliability and explain the role of each in assessing the quality of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inguish among nominal, ordinal, and numeric data, as well as discrete and continuous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numerical data, calculate the mean, median and mode, and state the relative advantages of each as a measure of central tenden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29200" y="6248520"/>
            <a:ext cx="380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ck to Table of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 of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ariable is an attribute of a person or an object that va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ment are rules for assigning numbers to objects to represent quantities of attribu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6248520"/>
            <a:ext cx="380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ck to Table of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tatistic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s is the science of describing or making inferences about the world from a sample of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ptive statistics are numerical estimates that organize and sum up or present the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tial statistics is the process of inferring from a sample to the popu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um is one observation about the variable being measu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are a collection of observ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pulation consists of all subjects about whom the study is being condu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ample is a sub-group of population being exam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ample:  all subjects have equal chance of inclusion in the stu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atic sampling:  selecting the kth numbered su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ified sample: random sampling within pre-defined groups of su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d sampling:  A small random sample is made and if its results are ambiguous then another larger random sample is coll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6248520"/>
            <a:ext cx="380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ck to Table of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iscrete variable has gaps between its values.  For example, sex is a discrete variable.  If male is 1 and female is 0, values in between have no meaning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ntinuous variable has no gaps between its values.  All values or fractions of values have meaning.  Age is an example of continuous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6248520"/>
            <a:ext cx="380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ck to Table of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Variables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minal scale assign numbers to attribute to name the category.  The numbers have no meaning by themselves, e.g. DRG c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inal scale assign numbers so that more of an attribute has higher values, e.g. Severit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n interval scale the interval between the numbers has meaning, e.g. Fahrenheit s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 scale is an interval scale where zero has true meaning, e.g. 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0T23:56:33Z</dcterms:created>
  <dc:creator>Mastee Badii</dc:creator>
  <dc:description/>
  <dc:language>en-US</dc:language>
  <cp:lastModifiedBy>Gene</cp:lastModifiedBy>
  <dcterms:modified xsi:type="dcterms:W3CDTF">2008-03-05T16:22:17Z</dcterms:modified>
  <cp:revision>32</cp:revision>
  <dc:subject/>
  <dc:title>Descriptive Statistics</dc:title>
</cp:coreProperties>
</file>